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7B26DD3-4024-4E18-8E33-3E30FAFDE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78435DE-C09F-402E-8809-7AFF8DD33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2D27C14-8359-47A4-AD5C-73691F8A7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370305F-F63D-4685-BB5E-73F3EA1C6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56B6E68-C7EA-4460-9D28-CDB4E8A72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BB280EC-A071-42FB-8C38-AE351107F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0810E45-5505-4DF2-A484-8CE60F7B9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39A7DD4-1A45-49D3-9B32-384F980FE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69C7DF5-F1CE-4055-BCE7-9104B6A07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1E3ACD6-7333-4694-B0CD-78BD6345E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4EBA965-C5B4-4FF2-9A7B-3ADE240EF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E280FA6-449B-42D8-AF77-E532D3740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A5CFE94-1912-45A1-84E2-EABD4AB98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D6A7-24F4-4720-9F1E-B0C114A7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7F9D-2D21-448B-B0A4-B346F6C2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ADB9-2FB9-4B08-A407-585E80E6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7C79-9B3D-4903-A608-296A0AF7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AD47-EB40-4633-9AC2-2B9B22AA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6A65-6530-44E4-8FC0-B7D03660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0E79-D120-41EA-A688-C1560C85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C087-C376-4AB1-B6E1-0EED33B2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13AF-0D8B-4FD0-BFFB-AD129482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F7E1-D3DD-4DEE-A31E-02F9AA2C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5366-282A-41D3-9195-600DD0AE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C818-6BBA-49BC-B35E-B9541A81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EA55-6E32-4E65-A213-DAB06203A7F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7950-BEB5-42B8-9159-13150C129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10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r>
              <a:rPr b="0" lang="en-US" sz="4800" spc="-1" strike="noStrike" u="sng">
                <a:solidFill>
                  <a:srgbClr val="003399"/>
                </a:solidFill>
                <a:uFillTx/>
                <a:latin typeface="Arial"/>
              </a:rPr>
              <a:t>  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4379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Jane Hyatt Thor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puty Director, Office of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Jayne Ha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ffice of Beneficiary Informatio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447920" y="2057400"/>
            <a:ext cx="670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905120" y="121932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905120" y="5181480"/>
            <a:ext cx="52578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996A-300E-47F5-8B23-8524E4EC7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Public Report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391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information should be reported?  Are some measures more appropriate for public reporting than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formation will be driven in large part by measure se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re some measures more suitable for public accountability or informed consumer choice?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3E0C-CF80-4365-910B-44EE4CCE5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79246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hould resource use information be publicly reported in addition to quality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resource use information be provided confidentially or publicly repor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f resource use information were publicly repor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quality and resource use information be reported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should resource use information be fra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might patients perceive and use the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98EA-56B6-4670-BE10-BD0A1A573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9246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scored to facilitate interpre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should public reporting use the scoring used in determining incentive pay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all performance measurement results be publicly repor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should the performance measurement results be displayed to facilitate understanding and use by Medicare beneficiaries, the public, professionals, and other providers?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36E3-361E-4C76-B4EB-889BBFA41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displayed to facilitate understanding and use by Medicare beneficiaries, the public, professionals, and other provi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composi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numbers or st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any information be suppres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benchmar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trending information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 what level should information be repor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information should be reported?  Are some measures more appropriate for public reporting than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hould resource use information be publicly reported in addition to quality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scored to facilitate interpre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displayed to facilitate understanding and use by Medicare beneficiaries, the public, professionals, and other provi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AB96-D6A5-44A5-9D8D-F10D66D30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DE9D-7821-49BC-A356-0C1B86AA2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oals of Public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urrent CMS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9DBE-03E2-468F-994E-597A03979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Goals of Public Repor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467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oster greater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rove quality and redu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ort more informed decision-making by various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ort quality and efficiency assessment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ort improved care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F3D2-7FBB-4608-9D21-1640AEDD3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837720"/>
            <a:ext cx="7467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VBP public reporting will build upon CMS’ current public reporting efforts and be modeled after existing Compare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 has multiple audiences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dicare patients (beneficia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ther patients and their friends &amp;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hysicians and other profession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dicare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ther P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1F9D-00C2-49F4-845B-7A9C03D66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s are designed and tested to insure that physicians, patients, their caregivers, and others understand and can use them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s will use performance and other relevant information to help physicians, patients, and other stakeholders in their decision-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5D9A-F9B6-4CD2-808D-75D717CE2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urrent CMS Initiative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tter Quality Information for Medicare Beneficiaries (BQI)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artered Value Ex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uture Physician Compar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46CB-C927-49A9-B971-B851F57B8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urrent Physician Direc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3125" r="3127" b="187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E745-3689-43C9-9A0B-13AC0BBB2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Hospital Comp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4688" t="9376" r="4688" b="72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AA8C-F690-4B4E-A6CE-883274618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 what level should information be repor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roup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opulation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level is most actionable for beneficiaries, physicians and other providers, the Medicare program, and other stakehold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level best supports improved care coordination and reflects how beneficiaries receive car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8-12-08T15:41:45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73352847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</Properties>
</file>